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384-43D0-4AE6-B22C-3646216D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48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597480"/>
            <a:ext cx="548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CF4-39FB-46E8-A811-3E98A1A0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02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59748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040200" y="359748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AC7-BA07-4B4F-A1E8-25DEFD08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83680" y="144792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939120" y="144792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59748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83680" y="359748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939120" y="359748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565-D918-4140-A194-A5BEA24C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BFD3-22A8-4BD6-A9C5-041F86A5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B2AE-EB54-4E31-B2C7-86DA2857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84E7-486B-4C51-A629-758D57A2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6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40200" y="1447920"/>
            <a:ext cx="26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74F5-E1A3-4A66-9A56-46B2D588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1E81-D185-4E93-BFBE-B87B637F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053F-0526-4341-A441-4C518497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40200" y="1447920"/>
            <a:ext cx="26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59748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C56F-667E-4952-A85A-2F882A68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0F3-D490-45AB-B94E-CDD58649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6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0402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0200" y="359748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7BC9-F6F8-4DFD-AD8C-D53EFD08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02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597480"/>
            <a:ext cx="548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B50F-3070-4E38-9367-36FE436B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48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597480"/>
            <a:ext cx="548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AB0B-AF3F-40EA-9B40-8234C848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02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59748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040200" y="359748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E446-16D6-4B1B-81E6-88AED949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83680" y="144792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39120" y="144792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59748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83680" y="359748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939120" y="3597480"/>
            <a:ext cx="176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3A14-4F39-40FE-B51F-0CC8C390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BEB-4A65-4B74-A6B5-33B0EF76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6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040200" y="1447920"/>
            <a:ext cx="26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ACD-3AD0-4F51-8BC1-09F0ED68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22F-FB7A-4027-AE55-1C1452BE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5AAA-3006-47F9-8E5D-BA665D42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040200" y="1447920"/>
            <a:ext cx="26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59748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8C20-6620-4619-B62D-00D73BF0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6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0402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0200" y="359748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01C4-8028-430D-B271-E989A3C5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040200" y="1447920"/>
            <a:ext cx="26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597480"/>
            <a:ext cx="548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AE6-9BC7-4378-A9A4-03F80ACB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046D-8C64-4E2F-9CEE-646AB52C2B9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8DAF-CD43-4104-9986-1561C7EA8DF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rwright.wikispaces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: To gain an understanding of the main opponents of the T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Bi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udalism, Autocracy, Autocrat, Tsar, Russification, Communism, Capitalism, Serfdom, Famine, Manchuria, Alexandra, Marxism, Karl Marx, Enge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 opponents of the T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cial Democrats, in 1903 splits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sheviks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lshevi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cialist Revolution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b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the educated classes and some no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elections and a 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ed civi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Democr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create a socialist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xist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over tactics to bring about the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ist Revolutio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Peas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violently overthrow the Tsar and his 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redistribute the land to be farmed collectiv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there is much much mo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must split into 4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group will be given an opposition group to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etails on the sheet which you can download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rwright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download this presen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07:38:10Z</dcterms:created>
  <dc:creator>Dulwich</dc:creator>
  <dc:description/>
  <dc:language>en-US</dc:language>
  <cp:lastModifiedBy>Dulwich</cp:lastModifiedBy>
  <dcterms:modified xsi:type="dcterms:W3CDTF">2007-09-06T07:58:46Z</dcterms:modified>
  <cp:revision>3</cp:revision>
  <dc:subject/>
  <dc:title>Objective: To gain an understanding of the main opponents of the Tsar</dc:title>
</cp:coreProperties>
</file>